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FBF-BA1B-441F-BDC0-A220A5E9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597-6442-4608-A335-47EFBE91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C34-2CC0-4686-B145-BCD00673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26E-D190-4BD8-8370-5C13A926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F816-0524-4BF0-89D0-C4075631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31E2-2217-4EE6-8D9C-5C5FA74A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2B70-97EA-43E3-948D-A29609EC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8FC6-A327-4553-A6BD-1C772C63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FA72-3ABD-47CE-91F4-5D67D273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1E5B-0874-4B86-B104-3DC6FAD0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1339-CC43-4D70-ABFB-CDFAA38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762-6D67-431A-A77A-6BCDD7AB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D5ED-BF8A-49D7-9403-602CCB2B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09CC-7468-48D8-B651-77952636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D46B-59CF-498E-8828-0DA4F4D4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2890-A8E9-4EE6-A343-E15BB21C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2CF0-8F9E-41DD-A38A-31867C2C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2A7-A1A2-40C2-83E3-98CAFC12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C69-1F9B-4BE2-881B-FAE66E80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452-AA38-4983-856C-8DB72D1C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C13-894A-409F-A933-11C09042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376-F10D-41F5-BDF0-9B39407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C4D-28BE-43F0-860D-E0528F2B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9D2-4B1D-48F1-980D-70E09005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B7BB-9015-43F7-9E83-83E6360B9541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4F2D-6FA6-4596-9D0F-2F6AF0698BA2}" type="slidenum"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’analisi delle reti soci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AC30-D0D9-4FCE-9219-77F0D147DA15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Come ci giudicano gli altri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0" i="1" lang="it-IT" sz="2600" spc="-1" strike="noStrike">
                <a:solidFill>
                  <a:srgbClr val="545472"/>
                </a:solidFill>
                <a:latin typeface="Tahoma"/>
              </a:rPr>
              <a:t>test di percezione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 costituisce un ulteriore raffinamento dell’approccio sociometric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ciascun partecipante viene chiesto di indicare le persone che, secondo lui, lo hanno scelto o rifiutat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Questa possibilità collega la sociometria ad un idea centrale (sviluppata da Cooley, Mead e l’interazionismo simbilico) nella tradizione della psicologia sociale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oi formiamo la nostra identità guardandoc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ello “specchio” delle opinioni che gli altr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hanno di noi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53B5-B58D-4E6C-83F2-866186973DF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vvero … dall’attrazione / repulsione ai flussi di comunic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indagano più gruppi chiusi, ma maglie aperte di relazioni interpersonali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studiano più le strutture delle simpatie, ma il sistema dei contatti; perde senso la valutazione della reciprocità della design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BFE8-2004-4827-886C-2ED6AD74BE63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erde significato il concetto di struttura a vantaggio di quello di re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a rete non esiste di per sé, ma in relazione a un determinato flusso di comunicazione (che può veicolare contenuti diversi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Quindi all’interno di un gruppo possono esistere più reti; una rete può attraversare un grupp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4091-9FB5-451C-B4C3-28F27D7B97F6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roblema metodologico: i confini delle re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160" y="1906560"/>
            <a:ext cx="88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In fase di progettazione, il ricercatore deve stabilire i confini della rete che studia. Quando questi non sono stabiliti dal committente o da caratteristiche strutturali, il ricercatore ha 2 possibilità: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tentare delle definizioni da sottoporre a controllo empirico;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ricostruire i confini in base alle percezioni di chi fa parte della rete che sta studiando.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4B68-AC73-465C-944F-A024DEB71C84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6472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oblema metodologico: il campiona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6160" y="1268280"/>
            <a:ext cx="88185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intende studiare reti molto estese, il ricercatore potrebbe aver bisogno di operare un campionament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logica campionaria tradizionale è stata pensata per selezionare individui e non reti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tecnica di campionamento più adatta alla rilevazione delle reti è lo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snow-ball sampling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n questo caso, la scelta dei punti di campionamento iniziale dipende dalla densità della rete, piuttosto che semplicemente dalla sua dimension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8B1A-8205-4F50-B68E-D43534C97B7D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333000"/>
            <a:ext cx="88218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660066"/>
                </a:solidFill>
                <a:latin typeface="Tahoma"/>
              </a:rPr>
              <a:t>Network analysis e teoria sociologica: il concetto di capitale sociale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Per </a:t>
            </a:r>
            <a:r>
              <a:rPr b="1" lang="it-IT" sz="2400" spc="-1" strike="noStrike">
                <a:solidFill>
                  <a:srgbClr val="545472"/>
                </a:solidFill>
                <a:latin typeface="Tahoma"/>
              </a:rPr>
              <a:t>capitale sociale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 si intende: l’insieme degli aspetti della struttura sociale che aiutano le persone ad agire collettivamente migliorando il benessere sociale, la crescita e lo sviluppo. Si tratta di un concetto multi-dimensionale e dinamico, che comprende le reti di relazioni interpersonali, le norme sociali e le istituzioni formali e informal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Al di là delle importanti differenze che caratterizzano i diversi approcci al capitale sociale, questo concetto costituisce – potenzialmente – una rivoluzione copernicana in sociologia: esso infatti sposta l’attenzione dei ricercatori (e quindi anche il loro modo di fare indagine) dagli attributi individuali a quelli delle relazioni in cui gli individui sono immers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17F9-FB2C-443F-BD64-BA181EEF0B1B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660066"/>
                </a:solidFill>
                <a:latin typeface="Tahoma"/>
              </a:rPr>
              <a:t>Sociometria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2131560"/>
            <a:ext cx="89596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Nel 1925 Jacob Moreno presenta al mondo la Sociometria: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Repertorio di tecniche di ricerca quantitativa che rilevano e studiano i processi di attrazione e comunicazione che si sviluppano nei gruppi piccoli.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B2A5-A509-4657-A19D-4ECCA18042D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ra ricerca e terap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ella visione di Moreno, la sociometria era più di una tecnica di ricerc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ltre a rilevare lo stato delle relazioni interpersonali all’interno di un gruppo, una ricerca sociometrica dovrebbe anche mobilitare, coinvolgere, rendere i membri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consapevol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del e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interessat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l proprio gruppo. In questo senso, era un vero e proprio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trattamento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D271-D1E0-421F-9D3C-8DB467BD2074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266760"/>
            <a:ext cx="896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Il “raffreddamento” della Sociomet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546200"/>
            <a:ext cx="88203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Ben presto (fine anni ’30) la sociometria perde la sua missione terapeutica, trasformandosi in una affermata tecnica di rilevazione particolarmente usata dagli psicolog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Il suo obiettivo è soprattutto rilevare l’</a:t>
            </a:r>
            <a:r>
              <a:rPr b="0" i="1" lang="it-IT" sz="3000" spc="-1" strike="noStrike">
                <a:solidFill>
                  <a:srgbClr val="545472"/>
                </a:solidFill>
                <a:latin typeface="Tahoma"/>
              </a:rPr>
              <a:t>attrazione interpersonale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, cioè il processo di scelta che sta alla base delle strutture di relazione e comunicazione dei piccoli grupp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0E4A-3A24-4D63-8017-632D30B050E0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test socio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Sostanzialmente si basa su due domande: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vai più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non vai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partire da questo nucleo centrale sono stati sviluppati diversi affinamenti, ognuno dei quali si basa su un diverso criterio di attrazione (con chi lavori meglio, a chi affideresti un progetto, con chi andresti a fare una vacanza, a chi affideresti tuo figlio, etc.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3F85-FB6E-4837-8E30-92656D6D5481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698040"/>
            <a:ext cx="8278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parare un test soci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8997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si realizza un test sociometrico, a ciascun partecipante viene chiesto di designare un numero prefissato di scelte e di repulsioni. Affinché i dati ottenuti con un test sociometrico siano validi, il ricercatore dev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hiarire il senso di concetti come “accordo”, “preferenza”, et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nvincere i partecipanti a svolgere lo scomodo compito di indicare simpatici e antipatici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E731-DD72-4A21-8A92-7B46CB8413F1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matrice sociometric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920" y="946080"/>
          <a:ext cx="8713800" cy="557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46080"/>
                    <a:ext cx="87138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D946-1F99-4D24-82C2-4FF81042D9D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5404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ndividu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1080" y="1474560"/>
            <a:ext cx="82785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 partecipanti a un test sociometrico possono essere classificati in base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status sociometric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icevut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la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centralità sociometrica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eciproc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grado di isolament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numero di designazioni ricevute, indipendentemente dal fatto che si tratti di scelte o rifiuti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6FF9-4BE5-4AB9-A8DE-3EAE87C51E16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 sotto-grupp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1080" y="1690200"/>
            <a:ext cx="8712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Oltre alle domande per fare le designazioni, il ricercatore può includere in un test sociometrico altre domande classiche da questionario (età, sesso, stato civile, ruolo nell’organizzazione, etc.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uccessivamente, i partecipanti al test sociometrico possono essere divisi in sottogruppi per analizzare il grado di apertura (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in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/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out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) di ciascun sottogrupp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1:40:13Z</dcterms:created>
  <dc:creator>Gabriella</dc:creator>
  <dc:description/>
  <dc:language>en-US</dc:language>
  <cp:lastModifiedBy>vitali</cp:lastModifiedBy>
  <dcterms:modified xsi:type="dcterms:W3CDTF">2008-08-26T12:48:22Z</dcterms:modified>
  <cp:revision>96</cp:revision>
  <dc:subject/>
  <dc:title>Esercitazione 16 novembre 2004</dc:title>
</cp:coreProperties>
</file>